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511-EA4F-439C-9B08-9E10649BB7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8A5-9A20-48F0-ABBE-894FF12B6F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FEF9-D141-4E6D-83BB-A0C91307E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основой  реализации основной образовательной программы начального общего образования  и предполагает ориентацию на достижение основного результата – развитие личности обучающегося на основе универсальных учебных действий познания и освоения мира, признание  решающей роли содержания образования и способов организации образовательной деятельности и учебного сотрудничества в достижении целей личностного и социального разви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E6B1-87BE-4793-B9D3-D8671C1DF3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240-624A-466F-8729-A85C2E257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ACB-977B-48EF-A21C-F5F44AF7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430-AB20-4316-93DF-89D8119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B0F-4D8F-4DE0-B47B-504EB816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9F5-21B9-4D5A-A1F5-9434CC0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DE7-82C3-4FD6-A777-FBD82582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D1DC-A133-461E-8A0E-458A626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023-3FA8-4648-89A4-BAC966DC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84D4-73DD-4BF8-B29A-2464C4C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24E6-8EB9-4869-B166-E7B3C33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A1C-6025-4896-8A77-CFCBC3E0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4023-6030-477B-8587-92EED88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228-5AE6-4125-91C9-FF26E38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F2C-20B2-4C44-8067-AB671F3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643-2A61-4CB7-B3FA-2832663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F7B-6309-4EDA-9D0C-930817A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15A-B775-437C-8E06-934F75E4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682B-E1ED-4DA9-91B0-F9BC8A49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5D205-6D88-4E3A-9338-45667EBF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5CB97-EA71-40D9-9A4A-2B20FB6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E7A67-31F1-4A93-BC83-327A77B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43499-9CFC-4E69-88D8-A80BAECE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A5B64-6E78-4889-A4DC-E4FD9E0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F9-F005-4B6A-AD6F-4BBE25A7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5E575-1250-4BD7-BD6E-214D256F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D6D0F-5D90-47D5-8D4B-C6F7438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95CC9-2995-4268-B5D9-0F4D1EE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D5D54-DD52-4866-AB2C-34E52A2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8DFBA-AAB1-40B9-AB0C-4E80D4C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548FE-744E-42E8-B7EE-B6014115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57088-8DBB-4840-B2F5-B393327A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4DC1-F620-4766-A720-47B8009F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E377-8956-4DA0-A150-ACAC0A4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6232-BAB2-4F9E-BBF4-B2482B4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E3A-43E6-4DDF-A1B9-AC88AA1D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B80A-DD29-45CF-8859-AD3FA3D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C8E7-05E3-4D9B-A6D2-4757388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5F38-B245-4139-8B0D-897CFADC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A24B-18B1-4AC9-9F3D-7D641AE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30C7-2270-4080-996B-C89BFD1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7388-BB81-4880-986B-B8DE6BC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00A3-5ECD-43D9-99D1-3081C68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DA6B-E010-4FF4-98F8-99FCF640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F7F2-D1A3-432D-9990-445FC59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91A-EFD1-42C8-A602-0C472AA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F18-3BF9-4008-9464-4004186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F58-94B4-4B04-9135-C22CB7C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3AF-A547-4AA9-979C-2493D56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11A-ED48-46C4-93E3-1AE977A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FB7-2365-42A9-A9FE-D13738357B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922-9FAF-41A9-A8CF-4C16955B5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9F9-19D9-4A93-8BA1-8E2292755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8D9F-EA1A-40D9-B0BE-83AA329CA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едагогический совет на тему: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«Системно-деятельностный подход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ути его реализаци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условиях ФГОС: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ыт, проблемы и перспективы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066920" y="2067120"/>
            <a:ext cx="14436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усский язык 11 клас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дном из приведённых ниже слов допущена ошибка в постановке ударения: НЕВЕРНО выделена буква, обозначающая ударный гласный звук. Выпишите это сл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ринЯ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Ан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вОни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гна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Елюст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усский язык 11 клас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одном из выделенных ниже слов допущена ошибка в образовании формы. Исправьте ошибку и запишите слово правиль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 ЧЕТЫРЬМЯСТАМИ школьник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алантливые РЕЖИССЁ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 ИХ просьб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ЕХАЙ осторож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ДЧАЙШИЙ экземпля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усский язык 11 клас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ите слово, в котором пропущена безударная проверяемая гласная корня. Выпишите это слово, вставив пропущенную букв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..ндариновы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р..сл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м..ри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.. ж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..ллектуальны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ите ряд, в котором в обоих словах в приставке пропущена одна и та же буква. Выпишите эти слова, вставив пропущенную букв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..градить, пр..ли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 ..рвать, н..дписа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..гибать, ра..жеч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..строить, о..би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..жать, пр..пода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«Образование: скрытое сокровище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Четыре столпа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на которых основывается образование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учиться познав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учиться дел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учиться жить вместе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учиться бы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Наши 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аучить получать знания (учить учиться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аучить работать и зарабатывать (учение для труда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аучить жить (учение для бытия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аучить жить вместе (учение для совместной жизни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rcRect l="0" t="18521" r="0" b="0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ФГОС: изменение требований к образовательному результат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метные (основы системы научных знаний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тапредметные (усвоенные межпредметные понятия и УУД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чностные (внутренняя позиция школьников, самооценка, мотивация,способность к решению моральных проблем и т.д.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000680"/>
            <a:ext cx="2143080" cy="27144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324000" y="62064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Системно-деятельностный подход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как концептуальная основа ФГОС общего образовани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428760" y="1285920"/>
            <a:ext cx="8001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товности личности к саморазвитию и непрерывному образованию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и конструирование социальной среды развития обучающихся в системе образования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ую учебно-познавательную деятельность обучающихся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с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ом индивидуальных возрастных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х и физиологических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ей обучающихс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Что такое системно-деятельностный подход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8900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истемно-деятельностный подход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организация учебного процесса, в которой главное место отводится активной и разносторонней, в максимальной степени самостоятельной познавательной деятельности школьни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лючевая особенность ДП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остепенный уход от информационного репродуктивного знания к знанию действ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1917360"/>
            <a:ext cx="9144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едагогическая задача –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организация условий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ующих детское действ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644364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324000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108000" y="3933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83bcc1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719280" y="3429000"/>
            <a:ext cx="7740360" cy="57168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108000" y="981000"/>
            <a:ext cx="889308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Georgia"/>
              </a:rPr>
              <a:t>Основной результат – развитие личности ребенка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Georgia"/>
              </a:rPr>
              <a:t>на основе  универсальных учебных действий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Можно накормить голодного рыбо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а можно дать ему удочку, чтобы он сам её пойма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47640" y="6573960"/>
            <a:ext cx="71640" cy="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57120" y="1071720"/>
          <a:ext cx="8429760" cy="5586120"/>
        </p:xfrm>
        <a:graphic>
          <a:graphicData uri="http://schemas.openxmlformats.org/drawingml/2006/table">
            <a:tbl>
              <a:tblPr/>
              <a:tblGrid>
                <a:gridCol w="1857600"/>
                <a:gridCol w="3000240"/>
                <a:gridCol w="3571920"/>
              </a:tblGrid>
              <a:tr h="64296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в режиме деятель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 тем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сообщает обучающим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ют сами обуч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ей и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ормулирует и сообщает обучающимся, чему должны на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ют сами обучающиеся, определив границы знания и не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0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сообщает обучающимся, какую работу они должны выполнить, чтобы достичь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обучающимися способов достижения намеченной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77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руководством учителя обучающиеся выполняют ряд практических задач (чаще применяется фронтальная форма организации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осуществляют учебные действия по намеченному плану (применяются групповая и  индивидуальная форма организации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3"/>
          <p:cNvSpPr/>
          <p:nvPr/>
        </p:nvSpPr>
        <p:spPr>
          <a:xfrm>
            <a:off x="428760" y="4287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Особенности урока в рамках деятельностного подхо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14200" y="492120"/>
          <a:ext cx="8715600" cy="6041880"/>
        </p:xfrm>
        <a:graphic>
          <a:graphicData uri="http://schemas.openxmlformats.org/drawingml/2006/table">
            <a:tbl>
              <a:tblPr/>
              <a:tblGrid>
                <a:gridCol w="1714680"/>
                <a:gridCol w="3259080"/>
                <a:gridCol w="3741840"/>
              </a:tblGrid>
              <a:tr h="164772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осуществляет контроль за выполнением обучающимися практическ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осуществляют контроль (применяются формы самоконтроля, взаимоконтроля по предложенному талон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корр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в ходе выполнения и по итогам выполненной работы обучающимися осуществляет коррек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формулируют затруднения и осуществляют коррекцию 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04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оценивает работу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участвуют в  оценке деятельности по её результатам (самооценивание, оценивание результатов деятельности товарищ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выясняет у обучающихся, что они запомн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одится 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объявляет и комментирует (чаще – задание одно для все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могут выбирать задание из предложенных учителем с учётом индивидуальных возмо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14200" y="428760"/>
          <a:ext cx="8534520" cy="5173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я                            Традиционный урок                     Урок в режиме деятельностного под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Местоимение как часть реч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Задание №1. Прочитайте стихотвор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Он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зучил за много л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Ее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 множеству прим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Задание №2. Ответьте на во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Кто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Он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Изучил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Ее 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го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появляется потребность узнать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Местоимение как часть реч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ворец летел к себе домо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етел дорогою прям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н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изучил за много л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по множеству прим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ходим с ребятами на тему урока и цели уро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4a5e"/>
                </a:solidFill>
                <a:latin typeface="Trebuchet MS"/>
              </a:rPr>
              <a:t>Характер обучения -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поисковый: освоение нового происходит на основе решения учебной задачи (проблемы) с помощью преобразования способов действий, конструирования новых, помимо предложенных учителем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Технологии реализации механизма СДП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ционные и коммуникативные технолог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, основанная на создании учебной ситу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, основанная на реализации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, основанная на уровневой дифференци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 деятельностного метод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6320" y="1412640"/>
            <a:ext cx="4464000" cy="504036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радиционный взгляд на ур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м.задание: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«Перескажи…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Тема: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«Сегодня мы будем изучать …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Объяснение: 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«Итак, слушайте внимательно…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Закрепление: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«Повторите что…? Когда…?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06920" y="1511280"/>
            <a:ext cx="4537080" cy="534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облемно-диалогический ур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Постановка проблемы:         -</a:t>
            </a:r>
            <a:r>
              <a:rPr b="0" lang="en-US" sz="2400" spc="-1" strike="noStrike">
                <a:solidFill>
                  <a:srgbClr val="299410"/>
                </a:solidFill>
                <a:latin typeface="Georgia"/>
              </a:rPr>
              <a:t>«С одной стороны… , но с другой стороны …»;        -«Что вас удивляет? …»   -«Какой возникает вопрос? (проблема)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Актуализация: </a:t>
            </a:r>
            <a:r>
              <a:rPr b="0" lang="en-US" sz="2400" spc="-1" strike="noStrike">
                <a:solidFill>
                  <a:srgbClr val="299410"/>
                </a:solidFill>
                <a:latin typeface="Georgia"/>
              </a:rPr>
              <a:t>«Вспомните, что мы уже знаем по этой проблеме?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Поиск решения: </a:t>
            </a:r>
            <a:r>
              <a:rPr b="0" lang="en-US" sz="2400" spc="-1" strike="noStrike">
                <a:solidFill>
                  <a:srgbClr val="299410"/>
                </a:solidFill>
                <a:latin typeface="Georgia"/>
              </a:rPr>
              <a:t>«По тексту определите …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Решение: </a:t>
            </a:r>
            <a:r>
              <a:rPr b="0" lang="en-US" sz="2400" spc="-1" strike="noStrike">
                <a:solidFill>
                  <a:srgbClr val="299410"/>
                </a:solidFill>
                <a:latin typeface="Georgia"/>
              </a:rPr>
              <a:t>«Как мы можем ответить на наш вопрос?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Line 4"/>
          <p:cNvSpPr/>
          <p:nvPr/>
        </p:nvSpPr>
        <p:spPr>
          <a:xfrm flipV="1">
            <a:off x="3132000" y="2707920"/>
            <a:ext cx="1871640" cy="12970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3564000" y="6165720"/>
            <a:ext cx="115236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3635280" y="4797360"/>
            <a:ext cx="1224000" cy="5032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132000" y="2637000"/>
            <a:ext cx="1871640" cy="158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28760" y="0"/>
            <a:ext cx="8358120" cy="1403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Georgia"/>
              </a:rPr>
              <a:t>Проблемно-диалогическая технология</a:t>
            </a:r>
            <a:br>
              <a:rPr sz="3200"/>
            </a:b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Цель - обучить самостоятельному решению проблем</a:t>
            </a:r>
            <a:r>
              <a:rPr b="0" lang="en-US" sz="2000" spc="-1" strike="noStrike">
                <a:solidFill>
                  <a:srgbClr val="424456"/>
                </a:solidFill>
                <a:latin typeface="Georgia"/>
              </a:rPr>
              <a:t> (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ФГОС)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Средство - открытие знаний вместе с детьм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3886200" y="2154240"/>
            <a:ext cx="5514840" cy="4378320"/>
            <a:chOff x="3886200" y="2154240"/>
            <a:chExt cx="5514840" cy="4378320"/>
          </a:xfrm>
        </p:grpSpPr>
        <p:pic>
          <p:nvPicPr>
            <p:cNvPr id="286" name="Picture 20" descr=""/>
            <p:cNvPicPr/>
            <p:nvPr/>
          </p:nvPicPr>
          <p:blipFill>
            <a:blip r:embed="rId1"/>
            <a:stretch/>
          </p:blipFill>
          <p:spPr>
            <a:xfrm>
              <a:off x="3921120" y="5087880"/>
              <a:ext cx="65088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1" descr=""/>
            <p:cNvPicPr/>
            <p:nvPr/>
          </p:nvPicPr>
          <p:blipFill>
            <a:blip r:embed="rId2"/>
            <a:stretch/>
          </p:blipFill>
          <p:spPr>
            <a:xfrm>
              <a:off x="4403880" y="4194000"/>
              <a:ext cx="474012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" descr=""/>
            <p:cNvPicPr/>
            <p:nvPr/>
          </p:nvPicPr>
          <p:blipFill>
            <a:blip r:embed="rId3"/>
            <a:stretch/>
          </p:blipFill>
          <p:spPr>
            <a:xfrm>
              <a:off x="3886200" y="4137120"/>
              <a:ext cx="608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3" descr=""/>
            <p:cNvPicPr/>
            <p:nvPr/>
          </p:nvPicPr>
          <p:blipFill>
            <a:blip r:embed="rId4"/>
            <a:stretch/>
          </p:blipFill>
          <p:spPr>
            <a:xfrm>
              <a:off x="4362480" y="2243160"/>
              <a:ext cx="47815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4" descr=""/>
            <p:cNvPicPr/>
            <p:nvPr/>
          </p:nvPicPr>
          <p:blipFill>
            <a:blip r:embed="rId5"/>
            <a:stretch/>
          </p:blipFill>
          <p:spPr>
            <a:xfrm>
              <a:off x="3927600" y="215424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5" descr=""/>
            <p:cNvPicPr/>
            <p:nvPr/>
          </p:nvPicPr>
          <p:blipFill>
            <a:blip r:embed="rId6"/>
            <a:stretch/>
          </p:blipFill>
          <p:spPr>
            <a:xfrm>
              <a:off x="4495680" y="5249880"/>
              <a:ext cx="490536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7" descr=""/>
            <p:cNvPicPr/>
            <p:nvPr/>
          </p:nvPicPr>
          <p:blipFill>
            <a:blip r:embed="rId7"/>
            <a:stretch/>
          </p:blipFill>
          <p:spPr>
            <a:xfrm>
              <a:off x="3927600" y="594360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8" descr=""/>
            <p:cNvPicPr/>
            <p:nvPr/>
          </p:nvPicPr>
          <p:blipFill>
            <a:blip r:embed="rId8"/>
            <a:stretch/>
          </p:blipFill>
          <p:spPr>
            <a:xfrm>
              <a:off x="4495680" y="6035760"/>
              <a:ext cx="4267440" cy="474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7272360" y="500040"/>
            <a:ext cx="1871640" cy="1395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286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Продуктивные задания – главное средство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76312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Решению продуктивных задач надо учить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Осмысл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задание (что надо сделать?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Найд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нужную информацию (текст, рис…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Преобразуй</a:t>
            </a:r>
            <a:r>
              <a:rPr b="0" lang="en-US" sz="2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нформацию в соответствии с заданием (найти причину, выделить главное, дать оценку…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Сформулируй</a:t>
            </a:r>
            <a:r>
              <a:rPr b="0" lang="en-US" sz="2400" spc="-1" strike="noStrike">
                <a:solidFill>
                  <a:srgbClr val="33cc33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устно/письменно) ответ, используя слова: «я считаю что…, потому что во-первых…, во-вторых… и т.д.»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Georgia"/>
              </a:rPr>
              <a:t>Дай полный ответ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рассказ), не рассчитывая на наводящие вопросы учител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Picture 5" descr="PE01832_"/>
          <p:cNvPicPr/>
          <p:nvPr/>
        </p:nvPicPr>
        <p:blipFill>
          <a:blip r:embed="rId2"/>
          <a:stretch/>
        </p:blipFill>
        <p:spPr>
          <a:xfrm>
            <a:off x="-36360" y="457200"/>
            <a:ext cx="1752480" cy="160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5003640" y="571680"/>
            <a:ext cx="3149640" cy="1099440"/>
          </a:xfrm>
          <a:prstGeom prst="rect">
            <a:avLst/>
          </a:prstGeom>
          <a:noFill/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 что Петра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называли «великим»?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187280" y="5716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скажи текст о Петре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4572000" y="762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Line 9"/>
          <p:cNvSpPr/>
          <p:nvPr/>
        </p:nvSpPr>
        <p:spPr>
          <a:xfrm flipH="1">
            <a:off x="4716000" y="85896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967280" y="1752480"/>
            <a:ext cx="417672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Почему корабли сделанные из железа не тонут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1150920" y="18208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Перечисли основные свойства вод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4535640" y="193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4679640" y="201132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181480" y="685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5105520" y="19051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2"/>
          <p:cNvSpPr/>
          <p:nvPr/>
        </p:nvSpPr>
        <p:spPr>
          <a:xfrm>
            <a:off x="357120" y="500040"/>
            <a:ext cx="8429760" cy="74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Другие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нформационная технолог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Адаптированная система обучения (АСО) – работа в группах и в пар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роблемно-развивающая технолог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Рейтинговая технолог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ехнология модульного об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ехнология коллективного способа обучения (авторск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Здоровьесберегающая технолог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Личностно-ориентированная технолог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Arial"/>
              </a:rPr>
              <a:t>МЕТАПРЕДМЕТНАЯ ТЕХНОЛОГ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упление Михайловой Г.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Когда людей станут учить не тому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060"/>
                </a:solidFill>
                <a:uFillTx/>
                <a:latin typeface="Georgia"/>
              </a:rPr>
              <a:t>что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а тому, </a:t>
            </a:r>
            <a:r>
              <a:rPr b="1" i="1" lang="en-US" sz="2800" spc="-1" strike="noStrike" u="sng">
                <a:solidFill>
                  <a:srgbClr val="002060"/>
                </a:solidFill>
                <a:uFillTx/>
                <a:latin typeface="Georgia"/>
              </a:rPr>
              <a:t>как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то тогда исчезнут всякие недоразум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Г. Лихтенберг</a:t>
            </a: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Рисунок 5" descr="E:\потапова\фото+видео\фото 2012\P1000342.JPG"/>
          <p:cNvPicPr/>
          <p:nvPr/>
        </p:nvPicPr>
        <p:blipFill>
          <a:blip r:embed="rId1"/>
          <a:srcRect l="0" t="0" r="2124" b="7922"/>
          <a:stretch/>
        </p:blipFill>
        <p:spPr>
          <a:xfrm>
            <a:off x="571680" y="3643200"/>
            <a:ext cx="4214520" cy="264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зиция учител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к классу не с ответом, а с вопрос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зиция учен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за познание ми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чебная задач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задача, решая которую ребёнок выполняет цели учител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чебн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управляемый учебный процес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чебное действ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действие по созданию образ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Образ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слово, рисунок, схема, пл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Оценочное действ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я умею! У меня получится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Эмоционально-ценностная оцен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формирование мировоззр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Задача школы </a:t>
            </a:r>
            <a:r>
              <a:rPr b="0" i="1" lang="ru-RU" sz="2400" spc="-1" strike="noStrike">
                <a:solidFill>
                  <a:srgbClr val="7030a0"/>
                </a:solidFill>
                <a:latin typeface="Georgia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дать объём знаний, а научить учитьс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Arial"/>
              </a:rPr>
              <a:t>РЕШЕНИЕ ПЕДСОВЕ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36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В условиях обновления содержания системы образования педагогам школы активизировать работу по внедрению системно – деятельностного подхода в своей деятель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6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Совершенствовать систему подготовки обучающихся к государственной итоговой аттестации  через внедрение  системно – деятельностного  подхода на урока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6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Используя свой передовой педагогических опыт и  опыт работы коллег по применению системно – деятельностного подхода,  продолжить повышение качества образовательного процесса в обучении и повышении профессионального уровня учител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6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Способствовать  созданию благоприятной психологической атмосферы на уроках и во внеурочное врем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овременный педагог – не тот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то учит, а тот, кто понима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 чувствует, как ребёнок учится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ак проходит его становл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И.В.Гё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кажи мне, и я забуд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кажи мне, и я запомню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ай мне действовать самому, 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я научус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Народная мудр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2714400" cy="275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Цель педсовета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вершенствование теоретической и практической подготовки педагогов по вопросу использования системно-деятельностного подхода в обуч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Задачи педсовет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судить деятельность педагогического                коллектива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в условиях обновления содержания системы образов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общить и систематизировать опыт работы педагогов по применению системно-деятельностного подхода в обучени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явить проблемы реализации системно – деятельностного подхода в УВ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работать рекомендации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Математика 11 класс (базовый уровень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лог на доходы составляет 13% от заработной платы. После удержания налога на доходы Мария Константиновна получила 6960 рублей. Сколько рублей составляет заработная плата Марии Константиновны? Ответ: ___________________________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день рождения полагается дарить букет из нечётного числа цветов. Хризантемы стоят 50 рублей за штуку. У Вани есть 500 рублей. Из какого наибольшего числа хризантем он может купить букет Маше на день рождения? Ответ: 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Математика 11 класс (базовый уровень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становите соответствие между величинами и их возможными значениями: к каждому элементу первого столбца подберите соответствующий элемент из второго столбц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ВЕЛИЧИНЫ                                     ВОЗМОЖНЫЕ ЗНАЧ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А) масса кухонного холодильника                   1) 3500 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) масса трамвая                                                     2) 15 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) масса новорожденного ребёнка                    3) 12 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Г) масса карандаша                                                4) 38 кг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Математика 11 класс (базовый уровень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начале года число абонентов телефонной компании «Юг» составляло 600 тыс. человек, а в конце года их стало 630 тыс. человек. На сколько процентов увеличилось за год число абонентов этой компании? Ответ: ___________________________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ырок стоит 17 рублей 60 копеек. Какое наибольшее число сырков можно купить на 130 рублей? Ответ: ___________________________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усский язык 11 клас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читайте фрагмент словарной статьи, в которой приведены значения слов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ПРИРОД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Определите значение, в котором это слово использовано в предложении 1. Выпишите цифру, соответствующую этому значению в приведённом фрагменте словарной стать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ИРОДА, -ы, ж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Места вне городов, загородные местности (поля, леса, горы). Любоваться природо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Весь неорганический и органический мир в его противопоставлении человеку. Охрана природы. Взаимоотношения человека и природ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Всё существующее во Вселенной, органический и неорганический мир. Изучать природ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Перен., чего. Основное свойство, сущность (книжн.). Природа социальных отнош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4:19:51Z</dcterms:created>
  <dc:creator>Оксана</dc:creator>
  <dc:description/>
  <dc:language>en-US</dc:language>
  <cp:lastModifiedBy>02</cp:lastModifiedBy>
  <dcterms:modified xsi:type="dcterms:W3CDTF">2015-03-30T12:32:21Z</dcterms:modified>
  <cp:revision>104</cp:revision>
  <dc:subject/>
  <dc:title>Педагогический совет на тему:  «Системно-деятельностный подход в обучении»</dc:title>
</cp:coreProperties>
</file>